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D11-CE82-42AA-81F3-DF4E852E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94D-0119-42E6-AFED-C6750C68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EAAF-E664-4DD7-B88F-52F3439F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9D0B-2F6D-43B0-9FDF-D1F94FD6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D6D-73F0-4FF3-BC51-C88EF89D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CE7-B936-4C2F-9369-2805548F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83C-030C-473E-9923-1EC4E637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40E-15B2-4145-B03A-4ACC0024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947-CD14-4DEA-84B9-8B96957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A4E-32B9-434D-A533-70288FC0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DCD-FF93-463F-B609-13D404CB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423-FFC3-48AF-8497-AFEC862C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972-A5BB-4D8C-958E-C18DBA8EB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Ride the New 25-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Mountain Bike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"/>
              </a:rPr>
              <a:t>Veterans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66680" y="609480"/>
            <a:ext cx="73152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ome Play in the Dir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124080"/>
            <a:ext cx="3047760" cy="37339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8471000">
            <a:off x="1080720" y="4710240"/>
            <a:ext cx="161928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ahoma"/>
              </a:rPr>
              <a:t>Now Ope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ahoma"/>
              <a:ea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5400000">
            <a:off x="-2475360" y="2932200"/>
            <a:ext cx="605484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ome Play in the Dir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46"/>
            </a:gs>
            <a:gs pos="50000">
              <a:srgbClr val="333399"/>
            </a:gs>
            <a:gs pos="100000">
              <a:srgbClr val="1717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Riding in the bike par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3624000">
            <a:off x="990360" y="1066680"/>
            <a:ext cx="3886200" cy="49528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657600" y="228600"/>
            <a:ext cx="4700520" cy="13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ide Safe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14329200">
            <a:off x="-87840" y="1535760"/>
            <a:ext cx="4952880" cy="3252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8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Real Trails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718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 rot="4926600">
            <a:off x="-376200" y="1747800"/>
            <a:ext cx="357192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For the Family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22:59Z</dcterms:created>
  <dc:creator>765860</dc:creator>
  <dc:description/>
  <dc:language>en-US</dc:language>
  <cp:lastModifiedBy>765860</cp:lastModifiedBy>
  <dcterms:modified xsi:type="dcterms:W3CDTF">2009-03-31T15:39:56Z</dcterms:modified>
  <cp:revision>4</cp:revision>
  <dc:subject/>
  <dc:title> </dc:title>
</cp:coreProperties>
</file>